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6FCF-054D-4250-989C-A981886F2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F079-C29E-4E77-A0DA-E97BFB53D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A751-301E-4304-AA82-062832CD9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7E7D-60BC-4DD4-8DA3-9D19D6DA8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142C-743A-4386-8592-0F55D2EE2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979B-1E98-4F74-B03D-14537C418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A0FC-4E3A-40B9-BB80-C22412B54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D315-5219-4FDE-9321-F9BC039D5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3208-A096-4653-AF2B-0495048C4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E9F3-D31B-4E53-9926-E647763A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DCEA-FEC8-4256-A529-C9C8DEF35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F7F8-CAB5-482C-86DA-B33355B9E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4CEF8-7E22-4DF2-8750-677DEF011C1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76520" y="3276720"/>
            <a:ext cx="487656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短语集萃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slow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2338560" y="2581200"/>
            <a:ext cx="4466880" cy="169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2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0120" y="228600"/>
            <a:ext cx="88524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 used for the latest ideas and technical inven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his day in his book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es Verne died in 1905, long before any of his dre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me tru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hip is also very strong and protect with thick ir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is needed for life on board comes from the oce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ctricity is used for light, heating,power and def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hip against attack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28800" y="228600"/>
            <a:ext cx="380880" cy="5335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00400" y="676440"/>
            <a:ext cx="6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038480" y="762120"/>
            <a:ext cx="762120" cy="3808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219320" y="2362320"/>
            <a:ext cx="7617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48280" y="1895400"/>
            <a:ext cx="81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86400" y="3276720"/>
            <a:ext cx="9907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15120" y="3191040"/>
            <a:ext cx="16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rote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33520" y="4419720"/>
            <a:ext cx="457200" cy="3808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90720" y="4495680"/>
            <a:ext cx="304560" cy="2286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19680" y="4334040"/>
            <a:ext cx="79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7162920" y="5257800"/>
            <a:ext cx="380880" cy="4572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543800" y="5334120"/>
            <a:ext cx="304920" cy="3045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252680" y="54770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38680" y="295200"/>
            <a:ext cx="86709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ir guide leads them through a narrow pas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eply into the ear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lk along its shores they go through forest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hrooms and plants that lived on the earth long a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entered the search for wisdom and dreamt of f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way to cure of any dise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prepare a body for it with all its muscles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s was still remained a difficult jo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was on a night in November when I looked at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 of my 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1143000"/>
            <a:ext cx="9907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48840" y="700200"/>
            <a:ext cx="89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e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1981080"/>
            <a:ext cx="762120" cy="763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690960" y="2428920"/>
            <a:ext cx="138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al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38280" y="3352680"/>
            <a:ext cx="381240" cy="3812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62520" y="334332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76920" y="3352680"/>
            <a:ext cx="533160" cy="4572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3880" y="4648320"/>
            <a:ext cx="457200" cy="4572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43600" y="4562640"/>
            <a:ext cx="75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81680" y="4648320"/>
            <a:ext cx="914400" cy="4572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10080" y="5867280"/>
            <a:ext cx="7621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414960" y="5934240"/>
            <a:ext cx="79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15120"/>
            <a:ext cx="91440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如果天气允许，我们明天去看你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are going to visit you tomorrow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结果那个会议很没意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eeting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to be boring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现代科学的发展已使这个问题明朗化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odern scientific development has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this ques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自从他经商以来，他总是很忙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ce he took up business, he has always been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在这件 事上我们的意见看来是一致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seem to be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the mat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46600" y="691200"/>
            <a:ext cx="27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ther permit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27280" y="17722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rned ou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311160" y="2707200"/>
            <a:ext cx="28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own light on/up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15280" y="465192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625480" y="5659920"/>
            <a:ext cx="22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greement 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1600200" y="228600"/>
            <a:ext cx="128592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2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1577160" y="990720"/>
            <a:ext cx="30243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渐渐喜欢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使某人记起某事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打下…的基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着手做某事 ；出发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某人努力做某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结果是，被证明是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带某人上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从那天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囚禁某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0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去冒险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阐明…，使…显得清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引起某人的注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54040" y="914400"/>
            <a:ext cx="346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develop one’s love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041720" y="1371600"/>
            <a:ext cx="281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remind sb. of s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48040" y="1819440"/>
            <a:ext cx="333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lay the foundation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9640" y="2276640"/>
            <a:ext cx="275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set out to do sth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953160" y="2657520"/>
            <a:ext cx="328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in one’s efforts to 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58960" y="3038400"/>
            <a:ext cx="226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turn out to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391560" y="3495600"/>
            <a:ext cx="28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take sb. on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163320" y="395280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from that day 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86640" y="4410000"/>
            <a:ext cx="344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keep sb. as a priso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10320" y="4714920"/>
            <a:ext cx="30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go on an adven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72640" y="5248440"/>
            <a:ext cx="27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throw light up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29280" y="5629320"/>
            <a:ext cx="354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attract one’s atten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827280" y="1201680"/>
            <a:ext cx="2293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8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英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谋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5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允许某人做某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6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保卫…免受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7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穿着潜水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440800" y="1211400"/>
            <a:ext cx="299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eight feet in he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53560" y="1668600"/>
            <a:ext cx="22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make a li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20240" y="2116080"/>
            <a:ext cx="29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llow sb. to do s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63040" y="2496960"/>
            <a:ext cx="30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defend …against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956680" y="2878200"/>
            <a:ext cx="353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ressed in diving su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685800" y="2743200"/>
            <a:ext cx="7153200" cy="289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Comic Sans MS"/>
              </a:rPr>
              <a:t>Multiple choices </a:t>
            </a: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-392760" y="1343160"/>
            <a:ext cx="97362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.To make a ______ , he had to write and sell sto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living        B. life         C. alive         D. l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2. Most of his stories will remind the reader_______th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ad ag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with          B. to           C. of               D.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3. People had no idea_________the inside of the eart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might look lik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 what         B. how       C. that           D. w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4.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obody is allowed _______in the hospit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to smoke                     B. smoking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to be smoked             D. having smok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28600" y="581040"/>
            <a:ext cx="13809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2</a:t>
            </a: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5" name=""/>
          <p:cNvSpPr/>
          <p:nvPr/>
        </p:nvSpPr>
        <p:spPr>
          <a:xfrm>
            <a:off x="2348640" y="1285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49240" y="2124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720240" y="3495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43920" y="4714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97280" y="330120"/>
            <a:ext cx="89254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5. To their surprise, the monster________ a submari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t la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turned to be             B. turned out to be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turned up                 D. turned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6. All _______is needed for life on board comes from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ce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what        B. that           C. which        D.  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7. Readers________about the character of hero ever si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he book was publish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had wondered                    B. have wonde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have been wondering        D. had been wond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8.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he guide leads us ________a narrow passage dee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nto the ear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to          B. across           C. above          D. throu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548680" y="2952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09840" y="1971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348280" y="33433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72520" y="50198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8480" y="228600"/>
            <a:ext cx="89316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9. Henry shows great interest in _________physics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he wishes himself to become________Einstein one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/; an         B. the; an           C. /; /             D. the ; 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0. Generally, the species that are able to adapt to the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hange of the environment will survive, __________the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thers will die o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while         B. although          C. if         D. s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1. Trick-or-treat is a Halloween tradition, 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hildren go  from house to house_________for cand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r other treats from their neighbou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which; asked          B. whose; asking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where; asked          D. in which ; as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49040" y="219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072920" y="2352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149240" y="4029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-378720" y="0"/>
            <a:ext cx="946188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12. ----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ommy, isn’t it time you _____the school bu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----Okay, I _______my breakfa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must catch; have almost finished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. catch; will almost fin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caught; am almost finishing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D. should catch; almost fin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3. Please forgive me if I have _______any of your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questions  unanswe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left          B. made         C. let           D. remai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4. In your review of a film, you can make ________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different  things about the fil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decision            B. clarity(n.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清楚）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　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comments         D. sugges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167800" y="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015520" y="28954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072920" y="4648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54440" y="152280"/>
            <a:ext cx="88981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5. Thinking of _______the journey would cost him a lot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he dismissed the id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the fact that          B. the fact which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that                      D. w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16.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hey began to search for the related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_________they reached the earthquake pl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soon                          B. immediate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the moment              D. at the min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7. I think Tom, ________you,  ________to bla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rather than; is            B. rather than; 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more than; are           D. less than ;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8. The Anti-Japanese War______in 1937 and it 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eight yea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was broken out; lasted             B. broke out; la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break out; lasts                         D. broke out ; l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973960" y="152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19320" y="2286000"/>
            <a:ext cx="44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202560" y="3581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726080" y="48769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s</cp:lastModifiedBy>
  <dcterms:modified xsi:type="dcterms:W3CDTF">2005-06-20T12:08:09Z</dcterms:modified>
  <cp:revision>34</cp:revision>
  <dc:subject/>
  <dc:title>PowerPoint Presentation</dc:title>
</cp:coreProperties>
</file>